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18B-64F5-4633-84C9-B1B2500C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7A8-4726-4D5A-9EBE-7475BC2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EB1F2-E71B-439F-94F1-1D2E7312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1695-0C3D-4782-B432-3C15680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6F32C-C5D8-4A6C-A816-78D325C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BADDF-AD0B-4226-A0E4-A9E10DB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DF94-51DA-4E82-A106-04DAD72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76B9-3984-448E-A9BD-276E02D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017A7-E22F-40D9-9BA7-2002F73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A36DF-BEB7-491A-B117-3D717BF9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7415C-4629-4673-8208-F3E54891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6E544-4F00-4C38-8FA7-3C216F10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BB8-7A49-4F2A-BC66-DF9A89FD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26809-54F9-4782-B963-F9BF128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7CD20-9FA2-431B-8680-076627F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F127E-1F86-4385-9F43-40C1371C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DDC3A-4F09-4007-BF4B-804AD8B7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63F6F-D0F1-4368-8CD5-835050F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CB61C-6D69-4FEF-8ECD-33B4D85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10B9E-836F-4489-A3A9-1F5C679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66EA1-440E-4DCC-9808-3238FCC7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32580-A0BD-41C2-B581-941D6D4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DBD20-C6F4-445C-A8EA-29FB93F3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DD9-1DA9-448C-8EF9-AAFC8895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C5332-46B3-4441-8474-B0280036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7DEF4-9903-4A47-A082-794F92CB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262C8-1E3D-46CA-B91E-E7DC5A51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09342-D82C-4E86-B059-E61F14B2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177DD-292C-47E3-8A7A-2915446D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354E3-3FC0-413B-BC51-9BC9D42D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1C0F8-E333-4555-8E43-819FFC14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82D6-9B71-41AF-9A37-570DE4D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8BA7-E798-4B85-9734-9E4AFEFD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3F837-D6BD-488A-97DA-B16A35C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FB33-8CFA-4CBD-9306-1773A3F7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EC0FE-408E-4C99-87D4-9FE4280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6A093-3594-43F0-B16C-DD13450F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D1DCC-C4C2-4797-90D5-6728F376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34E8-5A9E-4C7F-9DA0-5744AFEE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E8291-385B-4A2F-A859-D9338BD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B3E4E-0034-4F65-AA1D-C296EF5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69B9-0183-4AAA-906C-C6869E3C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65C07-A87E-4FE5-90A7-F846C2E9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D7AE4-3EA9-437A-9865-95D9E70F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C8CF9-E97A-4F52-949A-C1EA16B2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426-0A32-4B2E-BA8E-3BACCFD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98BF7-3665-43B8-81AD-FADDBD7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EE7D-B309-4A66-8176-4D151EA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6B93-FAEC-43D1-B5CC-2B5E832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34DF9-5EB6-4DD3-ADCC-BC2061A5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9C7B-D494-40B4-931D-49AC2E5A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48D36-8E3B-4B02-93E9-9E77E4BA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B7160-634E-4A9F-82E8-B7E71EFA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55022-9D8C-4E94-B2CF-D1676FD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099D6-107A-426A-8613-7326C0B7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4821F-E2A0-49AC-A6EB-392A3D1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0CBC-60A2-4A6B-A4FA-5EBB377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0E3AE-3871-475A-B2E3-9F3B59B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CD57D-3476-4EA3-BFEF-6B844A0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25896-414D-4D67-9A1D-8F0671A7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E308E-13D6-4587-8AB1-78258DF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E9AC9-21E7-46A7-82B3-A3E21955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832F2-219C-46DC-BB34-1799E31D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7DEA2-5E5E-48A4-BF40-8F04D001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25144-E5EF-426D-855D-1E624965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C7BBD-161A-475B-AE33-E26D3A8F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8FCAE-820F-4F86-BBBD-7985E79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C15-7035-407A-9D19-ACB9835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CDD55-AAC2-4193-8EB8-D43A5CA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42A60-47D7-4E7C-A4EB-500966E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0C0DE-62F0-4A6A-B0D6-615811FC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EE48F-9770-4E68-B2A1-E0650CF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EBE3B-9187-4E8B-83B7-8046D80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0BDBD-9AC7-4EA2-A5B5-ACC14EC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651DD-5D5A-4513-A7F9-A7ACD08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428D6-2F44-4B70-88DB-53E7D356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97C02-E411-403D-9FDC-B00004D2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8B5B8-AF76-44B7-B8E6-4BC0AC22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9EC4-681E-46B6-9C76-5DE709A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F7CD7-94D7-41F2-98E3-39CEB3CC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81307-F15E-4829-BAFD-1EE0924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16D9C-1965-486C-9B53-C7CFA4A4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E4453-1E9A-49E9-AB65-DF09A286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616DF-E396-4B66-96C2-4490D77A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C623B-BB85-4AB5-9979-ADFA6E1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D3D7C-2C77-429D-9890-2942DD2E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2E254-F013-46D4-9CA4-280B4515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36198-0A06-45B4-AC8E-BE0CFBF1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5B98C-578C-4196-9EF9-3BAAD177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39EE-576E-498B-84D1-19CD95BA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85653-C523-4809-A2B2-413B33EB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8F1E7-5EE0-46BB-BED9-963277D9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22A66-D1B8-4183-BFD9-C447852B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172A4-2FDF-446B-8708-A6831A61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00A9F-E8CD-4DCD-B328-816A723C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25B33-F938-478A-85C5-857767C4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391BA-0B18-4D6D-89EF-DD36BD1B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13861-A7FC-47AA-99BE-601EF502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BB6B6-DCA3-44D6-891D-1752DDE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606DB-F53B-41BE-9255-EE80A5A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0212-4F47-4D16-A4F9-C2B55E53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6EC41-571A-4ECE-A908-63942AE4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DFE93-6B7D-456E-B977-1DEF9D6D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37F42-C728-418D-9D15-ED9F759B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D89D4-5CF0-40EF-B056-302B470E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2856D-502A-4EE2-BF99-7EB9105A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F6FB0-66BC-492D-96ED-72B1E0D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7AA20-EF17-4125-B4D7-3162B7D2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8D897-7287-4FC1-A294-AAC92664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87C14-C142-48BC-BD9D-0E28A051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9EA5E-1ECE-483B-9DA8-20D61CC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C2C-F89A-4312-96A1-2D9DC59D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5160-3C98-4B36-BAE6-DCD2AAC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8FE3F-602F-4777-8CDF-B22DFDA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33AFD-38DF-4D31-8B32-FD7DDA5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7242E-60AB-412B-B044-EF03AA31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BF29D-2B00-42B1-954B-EB755A42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12C17-9502-49D9-BF0E-2DE7EE56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E8B65-F54F-433A-9655-E56C04D6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E6B34-8FF0-40E0-8F2E-64679038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84D74-1550-410C-A495-7BEB48B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B483DF-6760-462E-B34A-3974B4AC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720FA-79D5-4592-A3C3-342BC37C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EF1B-128A-4413-B32C-3BC159D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D6B20-16A5-4ACF-B12D-3582B5CE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4AE5D-3819-4EEF-9EFD-9D496EC2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ADB38-5AE2-4F0D-913D-ABB6108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B3994-1FC6-48F3-B249-B6F1FB2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B9A16-923E-42B1-909B-E23876F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7BD18-69AF-4A86-B10F-84601A14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4047C-B7DD-4E0C-A967-8CF9C5B0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10D78-0E6A-4B5C-9E5D-02B17B17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ACE44-00B1-4135-A975-CB98C7B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573B0-C26F-4512-A844-C1D1D8CB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FB76-D34B-4D07-B72D-3C4B2B19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A6DB6-291E-4163-A522-A9A872C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97DB7-104B-45B1-8747-9B761F9E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B4517-C80D-48A4-BADB-AB370A5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CF034-84B5-4EDA-917A-F101B66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3A51A-D1CB-4531-B216-D12A279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55E47-DC9D-46C3-B566-E66F048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17A6A-AD95-4C3B-9457-D34FD0E2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7891A4-99FD-409C-AB77-F39DA22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EB77A-32D6-4332-BAB7-2DD62A63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3DDEDA-E6B0-4573-9984-7E91CE2F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A7B2-1B36-446A-A930-E755066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29A95-446C-4DD8-8FCB-51D47527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D4E3E-1A7E-426A-ADED-E5C1645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4EA37-8579-4149-977A-E386365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528CF-DFEB-432F-BC68-B07EDCAD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301C6-FD57-42D4-9D8A-2CD2F5C5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B3A37-AAE8-4713-8905-6B2F9E52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299B08-83DB-444A-8CD1-48869F1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B004A-2470-485C-9D26-0264F33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066A4-7840-49A4-A10C-6BB1DDD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2577A-0D08-47CF-9A00-5AB1141A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2441-C275-4F34-849B-76D53060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C71EF-A18D-4CE0-9F43-72ADA436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41133-1F59-4D29-85A5-8B3367F5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B5264-9EF4-4B5C-AF97-BD6EC1B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FB761-8C60-41B9-AA55-4165B19C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B9221-C115-4A9E-A24A-DB77755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BB815-78A5-4F2D-BBE3-599B5A1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12A0E-563D-4483-B527-568D97AF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1B900-E843-4FA7-A59A-FC01115A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FABE3-C479-407B-9100-34077E5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892C7-F152-492A-BC2D-704C50BB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A8097-2983-42A5-93CB-134762DA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EA93A-EF77-4B1D-AC93-56D08356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C810A-CD80-4FDC-B7D5-6D680C31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477-E14A-4C7B-AB00-2ACF6BCA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9612-B4BB-4C2C-AE7A-02289C2A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B17E-F1A5-4C43-96F8-4629DC7A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608E-0C2B-4776-B985-0BE4730C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8DF-353C-42C6-BEBC-0091BEFA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FD9F-F0E9-44B7-8B8C-10D499F7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3122-B283-4195-89C5-6EE5AFC7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5D32-FE48-4088-872F-BD1B2669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EFB3-9753-4038-B76B-15B11BB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AF81-0545-4B0D-B045-71DBFAF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75A4-2A1F-43E7-A6AF-5A0C518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AD98-1B3D-48B6-8DD2-C2734D6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5DBA-7F29-4BAF-A89D-35C9BAE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85E9-C9C7-424E-9CFD-3CEE5EEA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06B1-0B29-4ECF-BEEF-C173122F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4C7-7670-4372-A778-B200A08A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4C81-8CFE-4DCE-BFAE-AF915289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2305-3322-463F-BAC0-0BEA87C0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FF85-D5B9-4C58-BBFA-3DD675B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572D-45EE-4C26-A8AC-9DA8380D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9F80-942E-46E8-80D0-D50B3781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A23B-DA2C-4622-8448-D0B5245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8444-DC9C-430E-8D92-D18390A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3477-3823-4061-973D-B3F21DF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4FBA-0B2F-45D3-B9F4-0EF077C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6F4B-04D8-48A7-A928-3EA89049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249-4995-460C-8F5E-9B9D47DA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0784-118C-4C87-B334-E7B9E175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4076B-6385-4882-9F16-906CB4FD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91924-231D-48FD-90A6-3040E3CA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B6D0-8239-41B3-A845-9581DBC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31DF-E0A9-45C2-8AA3-145153C7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6AA4-8564-47BA-94D1-D104EB7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8CCD-4D70-4912-B2D7-EFE71C2B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A4FB-864F-4C6C-B831-2BD9647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C20A-5E48-4F1D-9B5F-4AA7CEC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E397-36FB-4B12-898E-D141ACB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641-DCA2-4092-8B51-B047487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D939-13CA-44EC-9E00-A43F112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0388-09A7-470C-B1A3-F833C32B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5F16-F5A0-4CF0-809F-476EE684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25AC-699C-46CD-A2EE-16110EE1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0DC8-5296-4E01-92A5-EE8E835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F9CF-0F26-4C5F-9A40-7B5F6A0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F7673-2E66-4EE9-BDA8-3FAAB1E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F903-297F-494E-ADC5-E1A9B988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C37A-ADF6-4957-846B-F8369FD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79A5-4C58-4B79-B4F8-90B7924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7B7-846F-4B0A-998E-79A7641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C862-6072-4951-A26C-9363DFE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40D4-AEA4-4844-A370-7F40FA5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B043B-36BB-48FE-BF6F-FEA740A1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4BE2E-B5B8-41A9-A9FF-AA7C4D85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C7D0-1488-4D64-86E0-D880E05F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3CE7E-167F-4826-82A5-BFF0955D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4440-B331-4F20-949E-A74ED53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66F5B-B646-4C53-889D-9EA9F209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E17A2-9FC7-4E08-AC03-860EA6E6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8AFC-9CA7-46A9-8896-470A716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08C-FF79-4E22-A43F-D09C596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785A-6E10-420C-B01E-DCD3E99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F5834-B01F-4EB6-A5D4-016CB7D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C3DC-3F7B-4400-BD64-932039F0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D5431-79C6-454F-8FAA-9BC8241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8A892-0C50-4AFC-A88F-6FC2CBC9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C1037-FCEC-4F4D-82E7-84B776B7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706D-B7F9-476E-A6D0-166C934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B9E8-B504-45F9-8D18-819C953A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2E456-081D-45D5-88D5-9FCE9CD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51DB-5969-4DD8-BAD5-FC7CED5D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091-9514-422A-92B3-83A1DB57A8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1960-DFCF-4A32-A367-BCF7CD52C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9C98-B383-41D6-BD38-69B31926D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860-179E-4EF3-93FB-18F943972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2BF8-C8AE-4440-B64C-449AE56463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7CD-49E5-4D06-8D3E-210C5F4975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274-CD31-4C64-9748-DF6C1F1BC9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81E-D54D-4B1E-A65C-551D7A9CC0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8234-ED63-466F-B3C9-49B6BD5B4F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4A89-64CA-4962-A7AA-A938CC1211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E880-7E29-4172-80DF-9089374CC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BB5C-7D7D-4F60-B964-0D2545731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E3D6-C7CF-421A-B211-FBDA1C697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A88-7BE0-4A6C-A0E7-B9E3E09F5E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0A3-A405-477A-A275-607E334D8B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68F-1F3A-4AC7-A609-66B19DED5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AAF-8433-49BF-B54E-F6B42D84B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AEC-D552-4572-B209-08609874F0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865-A9A2-405C-97C2-F976427AD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A1AE-1E8E-4DA1-B39A-F291EA8A96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1DF-C413-4398-ABBB-99D0B4FCE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38C-8B08-466E-B7A0-C63798DED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BDE5-F789-43D5-BFCB-B650BB933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3015-2093-4C3B-8856-1210D73D59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BE5-4051-4F52-8D3A-0CF4787CE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E35E-5A80-4FA4-82C1-5DD011E16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E213-C19F-4A93-B268-8F09D9CDA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D55B-30B8-4242-B3D4-E910CEA5F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436F-EC70-481D-A000-22FFDCCC87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83C8-CCFD-4C3F-AD90-3A44A00D5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E029-4EFE-4DD5-B632-CABCE26DA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DE95-5787-4B8F-ACFB-73FBE9E97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885-FABE-4DE2-A096-7617788144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CB9-7503-42EF-943A-1B81AD035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2EEE-1E7E-41A3-8570-9D4A08D840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0C71-CB2C-494B-BDD6-21788F6ECE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9F28-E9C5-468F-968B-B7EE6E550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7117-1B32-46CE-BCAA-F536EEC3A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EB8-2B50-4425-8C52-FB9B47B5C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466560" y="2354400"/>
            <a:ext cx="8210880" cy="71424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723960" y="3722760"/>
            <a:ext cx="7696080" cy="7142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332000" y="1916280"/>
            <a:ext cx="187164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3313" descr=""/>
          <p:cNvPicPr/>
          <p:nvPr/>
        </p:nvPicPr>
        <p:blipFill>
          <a:blip r:embed="rId1"/>
          <a:stretch/>
        </p:blipFill>
        <p:spPr>
          <a:xfrm>
            <a:off x="90360" y="911160"/>
            <a:ext cx="8963280" cy="5181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2484360" y="30402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2556000" y="53290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4337" descr=""/>
          <p:cNvPicPr/>
          <p:nvPr/>
        </p:nvPicPr>
        <p:blipFill>
          <a:blip r:embed="rId1"/>
          <a:stretch/>
        </p:blipFill>
        <p:spPr>
          <a:xfrm>
            <a:off x="447840" y="838080"/>
            <a:ext cx="8248320" cy="51818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2268360" y="11095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2195640" y="22194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5361" descr=""/>
          <p:cNvPicPr/>
          <p:nvPr/>
        </p:nvPicPr>
        <p:blipFill>
          <a:blip r:embed="rId1"/>
          <a:stretch/>
        </p:blipFill>
        <p:spPr>
          <a:xfrm>
            <a:off x="66600" y="787320"/>
            <a:ext cx="9010800" cy="5810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116000" y="49561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1116000" y="14986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1187280" y="37735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1116000" y="43797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7"/>
          <a:stretch/>
        </p:blipFill>
        <p:spPr>
          <a:xfrm>
            <a:off x="1116000" y="61358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6" name="图片 22529" descr=""/>
          <p:cNvPicPr/>
          <p:nvPr/>
        </p:nvPicPr>
        <p:blipFill>
          <a:blip r:embed="rId1"/>
          <a:stretch/>
        </p:blipFill>
        <p:spPr>
          <a:xfrm>
            <a:off x="285840" y="861840"/>
            <a:ext cx="8572320" cy="5591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2268360" y="35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7596360" y="34574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2340000" y="5950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6"/>
          <a:stretch/>
        </p:blipFill>
        <p:spPr>
          <a:xfrm>
            <a:off x="4932360" y="59500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652320" y="2181240"/>
            <a:ext cx="7839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20481" descr=""/>
          <p:cNvPicPr/>
          <p:nvPr/>
        </p:nvPicPr>
        <p:blipFill>
          <a:blip r:embed="rId1"/>
          <a:stretch/>
        </p:blipFill>
        <p:spPr>
          <a:xfrm>
            <a:off x="147600" y="1104840"/>
            <a:ext cx="8848800" cy="4648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8193" descr=""/>
          <p:cNvPicPr/>
          <p:nvPr/>
        </p:nvPicPr>
        <p:blipFill>
          <a:blip r:embed="rId1"/>
          <a:stretch/>
        </p:blipFill>
        <p:spPr>
          <a:xfrm>
            <a:off x="457200" y="1490760"/>
            <a:ext cx="8229600" cy="3876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9217" descr=""/>
          <p:cNvPicPr/>
          <p:nvPr/>
        </p:nvPicPr>
        <p:blipFill>
          <a:blip r:embed="rId1"/>
          <a:stretch/>
        </p:blipFill>
        <p:spPr>
          <a:xfrm>
            <a:off x="804960" y="2095560"/>
            <a:ext cx="7534080" cy="26668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187280" y="21765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0241" descr=""/>
          <p:cNvPicPr/>
          <p:nvPr/>
        </p:nvPicPr>
        <p:blipFill>
          <a:blip r:embed="rId1"/>
          <a:stretch/>
        </p:blipFill>
        <p:spPr>
          <a:xfrm>
            <a:off x="123840" y="1380960"/>
            <a:ext cx="8896320" cy="4096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50508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2289" descr=""/>
          <p:cNvPicPr/>
          <p:nvPr/>
        </p:nvPicPr>
        <p:blipFill>
          <a:blip r:embed="rId1"/>
          <a:stretch/>
        </p:blipFill>
        <p:spPr>
          <a:xfrm>
            <a:off x="490680" y="1176480"/>
            <a:ext cx="8162640" cy="4505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1265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8229600" cy="25812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826920" y="22334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8:0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